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4B1BD-DB40-48E0-88AB-167828CD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EA3A2-9BBE-428E-B8EC-106DCEB0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47C9B-7CC6-492E-9080-D8FE9D21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6E1F-B3A1-4BA0-A241-9A423B3B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BE53B-385C-46F0-964C-037A3AAF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97766-02CC-44C4-B13E-2AD54C5D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0C3C5-8837-49E2-8D11-83D3165C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358EC-81FB-4CBD-86AA-0E763D9C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B7E7F-EF40-4718-80F4-DA6DA2C1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D28B-CC00-4EB6-8D71-C0A307E1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4EF3A-2A5E-4577-9C42-BA2D98FA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E4F51-DCA9-4609-A11C-4756BE56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8572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A9504843-053F-4120-B4F3-0F982DBCFB77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E2E6-C777-496D-879C-F32EF12394C7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48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60240" y="2057400"/>
            <a:ext cx="4456080" cy="1600200"/>
            <a:chOff x="660240" y="2057400"/>
            <a:chExt cx="4456080" cy="1600200"/>
          </a:xfrm>
        </p:grpSpPr>
        <p:sp>
          <p:nvSpPr>
            <p:cNvPr id="51" name=""/>
            <p:cNvSpPr/>
            <p:nvPr/>
          </p:nvSpPr>
          <p:spPr>
            <a:xfrm>
              <a:off x="660240" y="2057400"/>
              <a:ext cx="173304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i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nt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(P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75360" y="3048120"/>
              <a:ext cx="107280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43520" y="3048120"/>
              <a:ext cx="107280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48520" y="3352680"/>
              <a:ext cx="495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60240" y="4724280"/>
            <a:ext cx="8581680" cy="1907640"/>
            <a:chOff x="660240" y="4724280"/>
            <a:chExt cx="8581680" cy="1907640"/>
          </a:xfrm>
        </p:grpSpPr>
        <p:sp>
          <p:nvSpPr>
            <p:cNvPr id="56" name=""/>
            <p:cNvSpPr/>
            <p:nvPr/>
          </p:nvSpPr>
          <p:spPr>
            <a:xfrm>
              <a:off x="4043520" y="5257800"/>
              <a:ext cx="51984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Linux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0240" y="4724280"/>
              <a:ext cx="288828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43520" y="4724280"/>
              <a:ext cx="51984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C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85360" y="6095880"/>
              <a:ext cx="105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58640" y="6172200"/>
              <a:ext cx="181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 sys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66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43520" y="3048120"/>
            <a:ext cx="107316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199120" y="1905120"/>
            <a:ext cx="2022120" cy="2819160"/>
            <a:chOff x="5199120" y="1905120"/>
            <a:chExt cx="2022120" cy="2819160"/>
          </a:xfrm>
        </p:grpSpPr>
        <p:sp>
          <p:nvSpPr>
            <p:cNvPr id="75" name=""/>
            <p:cNvSpPr/>
            <p:nvPr/>
          </p:nvSpPr>
          <p:spPr>
            <a:xfrm>
              <a:off x="5199120" y="1905120"/>
              <a:ext cx="907560" cy="1752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an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30880" y="3657600"/>
              <a:ext cx="990360" cy="1066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81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89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3520" y="3048120"/>
            <a:ext cx="66024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29240" y="1905120"/>
            <a:ext cx="577800" cy="1752480"/>
          </a:xfrm>
          <a:prstGeom prst="rect">
            <a:avLst/>
          </a:prstGeom>
          <a:solidFill>
            <a:srgbClr val="0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45160" y="1905120"/>
            <a:ext cx="74268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104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1-02-19T13:16:56Z</dcterms:modified>
  <cp:revision>52</cp:revision>
  <dc:subject/>
  <dc:title>xPanel &amp; PCO2</dc:title>
</cp:coreProperties>
</file>